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53B6-26D1-4996-B0A4-9893A28E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10CA-14F9-421F-B0BD-6F4F225D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B6BE-D274-4AF7-8305-D738DD564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B512-F7F4-4E00-906F-82F6D2D3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0B70-43C5-44EB-8037-F4C8CB19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1136-5FCE-445A-A39C-871E2BE5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EA8D-A09B-4ED4-AE5F-E5FF1AC7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0F64-65DD-44B9-ADF9-689EE99F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5F2C-7196-4359-B6DB-FEFCE716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729E-E663-4276-BBD8-B7597084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8F7E-2069-464E-886C-1C6DC50E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4CDB-8B33-4651-805A-7E6B1082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C4C4-4A6D-45D0-92BD-E0751B33EBC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2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179280" y="1484280"/>
            <a:ext cx="8713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06360" y="3716280"/>
            <a:ext cx="856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صبر والعفو أفض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فيه أجر من الله تعالى عل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3"/>
          <a:stretch/>
        </p:blipFill>
        <p:spPr>
          <a:xfrm>
            <a:off x="2873520" y="1052640"/>
            <a:ext cx="6019560" cy="583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4"/>
          <a:stretch/>
        </p:blipFill>
        <p:spPr>
          <a:xfrm>
            <a:off x="1198440" y="2924280"/>
            <a:ext cx="7694640" cy="5968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250920" y="170028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رفة أحوالهم وما يناس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533"/>
          <a:stretch/>
        </p:blipFill>
        <p:spPr>
          <a:xfrm>
            <a:off x="324000" y="2276640"/>
            <a:ext cx="85341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1260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7465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08000" y="1041480"/>
            <a:ext cx="8829720" cy="56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1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642160" cy="4464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179280" y="934920"/>
            <a:ext cx="8817120" cy="100980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395280" y="472428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قرآ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395280" y="53006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دعاء إلى الله بآياته والدعاء إلى حجج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95280" y="5915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جهدون أنفسهم في عداوتك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sp>
        <p:nvSpPr>
          <p:cNvPr id="55" name="مستطيل 1"/>
          <p:cNvSpPr/>
          <p:nvPr/>
        </p:nvSpPr>
        <p:spPr>
          <a:xfrm>
            <a:off x="1979640" y="1557360"/>
            <a:ext cx="36036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دعوة إلى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 كفائي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واجب كفائي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ذا قام به من يكفي سقط الإثم عن الباق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جب أن تكون الدعوة إلى الله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لى بصيرة وعل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66760" y="3068640"/>
            <a:ext cx="8666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نبغي للداع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عرفة أحوال المدعوين وما يناسب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362412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عاقبة بالمثل دون تجاوز للضوابط الشرعي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ائ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403560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فضل من المعاقبة بالمث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بر والاحتساب والعفو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54968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ية الله تعالى ثابتة لأه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قوى والإح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505476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معية الله تعالى لأهل التقوى والإحسا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عية نصر وتأيي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8" name="مربع نص 1"/>
          <p:cNvSpPr/>
          <p:nvPr/>
        </p:nvSpPr>
        <p:spPr>
          <a:xfrm>
            <a:off x="250920" y="1700280"/>
            <a:ext cx="86295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حك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موعظة الحسن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مجادلة بالتي هي أحس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3"/>
          <a:stretch/>
        </p:blipFill>
        <p:spPr>
          <a:xfrm>
            <a:off x="3597120" y="907920"/>
            <a:ext cx="528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"/>
          <p:cNvPicPr/>
          <p:nvPr/>
        </p:nvPicPr>
        <p:blipFill>
          <a:blip r:embed="rId3"/>
          <a:stretch/>
        </p:blipFill>
        <p:spPr>
          <a:xfrm>
            <a:off x="455760" y="981000"/>
            <a:ext cx="8445240" cy="1152720"/>
          </a:xfrm>
          <a:prstGeom prst="rect">
            <a:avLst/>
          </a:prstGeom>
          <a:ln w="0">
            <a:noFill/>
          </a:ln>
        </p:spPr>
      </p:pic>
      <p:sp>
        <p:nvSpPr>
          <p:cNvPr id="73" name="مربع نص 1"/>
          <p:cNvSpPr/>
          <p:nvPr/>
        </p:nvSpPr>
        <p:spPr>
          <a:xfrm>
            <a:off x="250920" y="220500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صبر الرسول صلى الله عليه وسلم على دعوة كفار قريش إلى الإسلام (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0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) سنو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7T22:31:57Z</dcterms:modified>
  <cp:revision>1955</cp:revision>
  <dc:subject/>
  <dc:title>عرض تقديمي في PowerPoint</dc:title>
</cp:coreProperties>
</file>